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7FF1-C4BB-47B2-8E39-423677E5D2F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προσέγγιση «από την κορυφή» (top-down) θεωρεί ότι καθήκον της εφαρμογής της πολιτικής είναι να εξασφαλίζει ότι η εκτέλεση των πολιτικών φέρνει τα αποτελέσματα και επιτυγχάνει τους στόχους που έχουν προκαθορίσει οι αρμόδιοι για τη χάραξή τους. </a:t>
            </a:r>
            <a:endParaRPr b="0" lang="en-US" sz="800" spc="-1" strike="noStrike">
              <a:solidFill>
                <a:srgbClr val="000000"/>
              </a:solidFill>
              <a:latin typeface="Arial"/>
            </a:endParaRPr>
          </a:p>
        </p:txBody>
      </p:sp>
      <p:sp>
        <p:nvSpPr>
          <p:cNvPr id="17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BC2A-6021-48EE-A262-4779340BD2D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ντίθετα, η προσέγγιση «από τη βάση» (bottom-up) θεωρεί ότι ο ρόλος αυτών που είναι επιφορτισμένοι με την πρακτική εφαρμογή της πολιτικής είναι να ανταποκρίνονται στις τοπικές και στις μεταβαλλόμενες συνθήκες.</a:t>
            </a:r>
            <a:endParaRPr b="0" lang="en-US" sz="800" spc="-1" strike="noStrike">
              <a:solidFill>
                <a:srgbClr val="000000"/>
              </a:solidFill>
              <a:latin typeface="Arial"/>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0EAC-287F-4DB9-BB48-9BC5353C726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Παραγόμενα της πολιτικής (policy outputs) είναι όλα όσα κάνει μια κυβέρνηση.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ποτελέσματα της πολιτικής (policy outcomes) είναι όσα πετυχαίνει. Τα αποτελέσματα είναι η δραστηριότητα, ή αλλιώς οι συνέπειες της πολιτικής, τόσο οι σχεδιασμένες όσο και οι απρόβλεπτε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α παραγόμενα είναι ευκόλως μετρήσιμα: τόσες νέες φυλακές χτίστηκαν, τόσο αυξήθηκαν οι συντάξεις. Τα αποτελέσματα δεν είναι εξίσου αναγνωρίσιμα, καθώς αφορούν ζητήματα όπως η μείωση του υποτροπιασμού ή του αριθμού των ηλικιωμένων που ζουν στη φτώχεια.</a:t>
            </a:r>
            <a:endParaRPr b="0" lang="en-US" sz="800" spc="-1" strike="noStrike">
              <a:solidFill>
                <a:srgbClr val="000000"/>
              </a:solidFill>
              <a:latin typeface="Arial"/>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CE89-0836-4D9A-96DB-D5B4105E9BF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ήνοντας κατά μέρος την παροχή υπηρεσιών, τα πολιτικά εργαλεία μπορούν να διακριθούν σε τρεις κατηγορίες: στα μαστίγια (κυρώσεις), στα καρότα (επιβραβεύσεις) και στα κηρύγματα (πληροφόρηση και πειθώ).</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μαστίγια περιλαμβάνονται οι παραδοσιακές λειτουργίες ελέγχου και εντολών: η απαγόρευση του τάδε, ο ορισμός ως προϋπόθεση του δείν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αρότα περιλαμβάνουν θετικού τύπου οικονομικά κίνητρα, όπως οι φοροαπαλλαγές και οι επιδοτήσει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ηρύγματα περιλαμβάνουν το αγαπημένο εργαλείο των φορέων που θέλουν να δείξουν το ενδιαφέρον τους για τους πολίτες: τις δημόσιες εκστρατείες πληροφό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AB6A-41EC-4A7D-96A6-88B053CA701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ένα σύστημα ανώτατων ορίων και δικαιωμάτων εμπορίας (cap and trade), η κυβέρνηση θέτει ένα ανώτατο όριο εκπομπής συγκεκριμένου ρύπου και εκδίδει δικαιώματα ρύπανσης έως αυτό το όριο. Στη συνέχεια, τα δικαιώματα αυτά μπορούν να αγοραστούν και να πωληθούν.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Το σημαντικότερο σχετικό παράδειγμα είναι το Σύστημα Εμπορίας Ρύπων της Ευρωπαϊκής Ένωσης για τις Εκπομπές Διοξειδίου του Άνθρακ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C9D5-6B37-4BED-9CE7-A223B53E8AB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δημόσιο ρυθμιστικό πλαίσιο (regulation) αναφέρεται στην εποπτεία συγκεκριμένου κοινωνικού ή οικονομικού τομέα, κυρίως μέσω της θέσπισης και εφαρμογής κανόνων, και της επιδιαιτησίας σε περιπτώσεις διαφορών. Σε αντίθεση με τους καθολικής ισχύος νόμους, μεγάλο μέρος του ρυθμιστικού πλαισίου αφορά συγκεκριμένους τομείς, όπως η προστασία των καταναλωτώ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741E-C6B0-486D-BDF6-B2F2F1827E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συρρύθμιση (co-regulation) αναθέτει την επίτευξη δημόσιων στόχων, συνολικά ή εν μέρει, σε ομάδες που συμμετέχουν άμεσα στον συγκεκριμένο τομέα (π.χ. στους ιατρικούς συλλόγου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αυτορρύθμιση (self-regulation) ασκείται από τις ίδιες τις ομάδες, ενίοτε ανεξάρτητα από την κυβέρνηση.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όροι αυτοί χρησιμοποιούνται ευρέως από τις ρυθμιστικές αρχές στην Ευρωπαϊκή Ένωση (Senden, 200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FA77-27BB-4475-BF33-FC9CE0BA4F3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εξάρτητος ρυθμιστικός φορέας (independent regulatory agency) είναι ένας αμερικανικής προέλευσης όρος, που αναφέρεται σε δημόσιους φορείς, οι οποίοι θεσπίζονται με απόφαση του Κογκρέσου για να ορίζουν και εφαρμόζουν κανόνες σε συγκεκριμένους τομείς. Οι φορείς αυτοί δεν υπάγονται οργανικά στα υπουργεία, ενώ τα μέλη τους μπορούν να παυτούν μόνον από τον πρόεδρο και αποκλειστικά για λόγους που ορίζονται ρητά στον ιδρυτικό τους νόμ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1840-399F-44BC-889E-17E7BE101FB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Το κύριο χαρακτηριστικό της πολιτικής διαδικασίας σε πολλές μη δημοκρατικές χώρες είναι η υποταγή της πολιτικής στις πολιτικές σκοπιμότητες. Συχνά, η κύρια ενασχόληση των μη εκλεγμένων ηγετών είναι η άσκηση μιας πολιτικής τύπου διαίρει και βασίλευε, την οποία ανήγαγαν σε τέχνη οι βασιλικές οικογένειες της Μέσης Ανατολής.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Καθώς αισθάνονται ανασφαλείς όσον αφορά τη μακροπρόθεσμη επιβίωση της εξουσίας τους, οι απολυταρχικοί ηγέτες επιδιώκουν συχνά να αποκτήσουν πλούτη για τον εαυτό τους, την οικογένειά τους και την εθνοτική τους ομάδα, ενώ διατηρούν παράλληλα τους πόρους του κράτους υπό τον έλεγχό τους. Αυτή η έμφαση στην πολιτική επιβίωση και τον προσωπικό πλουτισμό προφανώς δεν συνάδει με την οργανωμένη ανάπτυξη της πολιτικής - αντίθετα προϋποθέτει την αδιαφάνεια.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Επιπλέον, οι ηγέτες μπορεί απλούστατα να μην έχουν την ικανότητα να χαράξουν ολοκληρωμένη πολιτική. Αυτή η αδυναμία υπήρξε χαρακτηριστικό γνώρισμα των στρατιωτικών καθεστώτων, οι ηγέτες των οποίων συχνά δεν διέθεταν ούτε την τυπική εκπαίδευση ούτε τις απαραίτητες διοικητικές ικανότητες.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Η πολιτική αδράνεια αποτελεί πάγιο χαρακτηριστικό της απολυταρχικής εξουσίας. Η στασιμότητα επιδεινώνεται όταν -όπως συμβαίνει σε πολλές από τις μεγαλύτερες μη δημοκρατικές χώρες- οι ηγέτες επιδιώκουν προσόδους, ενώ επιπλέον εκμεταλλεύονται τον έλεγχο που ασκούν επί φυσικών πόρων, όπως το πετρέλαιο. </a:t>
            </a:r>
            <a:endParaRPr b="0" lang="en-US" sz="1100" spc="-1" strike="noStrike">
              <a:solidFill>
                <a:srgbClr val="000000"/>
              </a:solidFill>
              <a:latin typeface="Arial"/>
            </a:endParaRPr>
          </a:p>
        </p:txBody>
      </p:sp>
      <p:sp>
        <p:nvSpPr>
          <p:cNvPr id="19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EF22-68FC-4253-BEC3-F763D0EA334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έννοια της επιδίωξης προσόδων (rent-seeking) αναφέρεται στην προσπάθεια κρατικών λειτουργών να αποκομίσουν προσόδους από την πώληση κάποιου πόρου στον οποίο οι ίδιοι δεν προσθέτουν καμία αξία.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α σχετικά παραδείγματα περιλαμβάνονται οι κυβερνητικοί αξιωματούχοι που δωροδοκούνται για την έκδοση μιας άδειας σε κάποια επιχείρηση ή ενός διαβατηρίου σε κάποιο πολίτη.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αυτές τις περιπτώσεις, οι δημόσιοι υπάλληλοι θέτουν προς πώληση τη διακριτική ευχέρεια που απολαμβάνουν. Η πρακτική αυτή είναι αμοιβαία επωφελής για τους συναλλασσομένους, έχει όμως κόστος για την οικονομία και την κοινωνία συνολικά.</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990C-D59A-4C0F-9ABD-ABD0AE3CBB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1DB9-0C7B-4A90-A9A5-D5DCAAF5594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έννοια της πολιτικής (policy) είναι ευρύτερη από αυτή της απόφασης. Κάθε πολιτική περιλαμβάνει εξ ορισμού ένα σύνολο αποφάσεων. Γενικά μιλώντας, οι πολιτικές υποδηλώνουν την πρόθεση να ληφθούν συγκεκριμένες αποφάσεις στο μέλλο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Η πολιτική διαδικασία στις ανελεύθερες δημοκρατίες κινείται ανάμεσα στα μοντέλα των φιλελεύθερων δημοκρατιών και των απολυταρχικών καθεστώτων.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Από τη μία μεριά, στις ανελεύθερες δημοκρατίες εξ ορισμού απουσιάζουν οι ισχυροί θεσμοί, το νομικό πλαίσιο και η περίπλοκη διασύνδεση στο εσωτερικό της κοινωνίας, οι οποίοι αποτελούν προϋπόθεση για την περίπλοκη και εξελιγμένη διαδικασία λήψης των αποφάσεων και εφαρμογής των πολιτικών που συναντάμε στις φιλελεύθερες δημοκρατίες.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Από την άλλη μεριά, οι ανελεύθερες δημοκρατίες δεν μπορούν να εγκαταλείψουν στη μοίρα της τη δημόσια πολιτική, όπως πράττουν πολλά στρατιωτικά καθεστώτα.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Στις ανελεύθερες δημοκρατίες, οι κυβερνήσεις είναι υποχρεωμένες να κερδίζουν εκλογές και να τροφοδοτούν με όνειρα το λαό. Η φτώχεια και η ανισότητα γεννούν την ελπίδα μιας καλύτερης ζωής, ταυτόχρονα, όμως, περιορίζουν τις δυνατότητες των ηγετών να φέρουν αποτελέσματα.</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Ο λαϊκιστής ηγέτης βασίζεται στον ισχυρισμό ότι είναι ο μόνος που μπορεί να γεφυρώσει το χάσμα ανάμεσα στη φτώχεια των πολλών και τον πλούτο των ολίγων.</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 </a:t>
            </a:r>
            <a:r>
              <a:rPr b="0" lang="el-GR" sz="1100" spc="-1" strike="noStrike">
                <a:solidFill>
                  <a:srgbClr val="000000"/>
                </a:solidFill>
                <a:latin typeface="Arial"/>
              </a:rPr>
              <a:t>Η αντικειμενική εφαρμογή της δημόσιας πολιτικής είναι αδύνατη, διότι πολλοί δημόσιοι λειτουργοί είναι τόσο κακοπληρωμένοι, ώστε αναγκάζονται, για να τα βγάλουν πέρα, να ενδώσουν στη διαφθορά. Μπορεί να είναι αλήθεια ότι η διαφάνεια είναι το καλύτερο φάρμακο, όμως η καταπολέμηση της διαφθοράς και της επιδίωξης προσόδων δεν μπορεί να επιτευχθεί μόνο με την επίκληση της διαφάνειας. Το πρόβλημα είναι ότι η διαφάνεια προϋποθέτει τη διάχυση του παραγόμενου πλούτου, όμως αυτή η τελευταία προϋποθέτει τη μείωση της διαφθοράς.</a:t>
            </a:r>
            <a:endParaRPr b="0" lang="en-US" sz="1100" spc="-1" strike="noStrike">
              <a:solidFill>
                <a:srgbClr val="000000"/>
              </a:solidFill>
              <a:latin typeface="Arial"/>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54DF-9B00-49CA-A83E-1B17D7FA428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όρος δημιουργία ικανοτήτων (capacity building) αναφέρεται στην ανάπτυξη της μακροπρόθεσμης ικανότητας των οργανισμών και φορέων να πετύχουν τους στόχους τους. Προϋποθέτει όχι μόνον υλικούς και ανθρώπινους πόρους, αλλά και τη δυνατότητα ουσιαστικής αξιοποίησής του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Ο όρος χρησιμοποιείται συχνά στα προγράμματα βελτίωσης της αποτελεσματικότητας των κρατικών δομών στις αναπτυσσόμενες χώρες.</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25AF-6AF8-442E-8EA3-74C71861EE7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 </a:t>
            </a:r>
            <a:r>
              <a:rPr b="0" lang="el-GR" sz="1100" spc="-1" strike="noStrike">
                <a:solidFill>
                  <a:srgbClr val="000000"/>
                </a:solidFill>
                <a:latin typeface="Arial"/>
              </a:rPr>
              <a:t>Οι αναλυτές έχουν αναπτύξει τρία μοντέλα για την ανάλυση της διαδικασίας διαμόρφωσης της πολιτικής: το ορθολογικό (rational) ή συνοπτικό (synoptic) μοντέλο που συνδέεται με τον Simon (1983), το μοντέλο της βαθμιαίας προσέγγισης και εφαρμογής (incremental), το οποίο ανέπτυξε ο Lindblom (1979) και το μοντέλο του κάδου απορριμμάτων (garbage can model) (1984), που ονομάστηκε έτσι από τους Cohen κ.ά. (1972).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F07D-E472-448F-A19A-9406ACC45FE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ορθολογικό μοντέλο αναζητά τα στοιχεία που θα χαρακτήριζαν την ορθολογική διαμόρφωση της πολιτικής, χωρίς να θεωρεί ότι τα συμπεράσματά του αντανακλώνται στην πράξ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E93F-F121-40B8-9738-22ED983E485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Το προεξοφλητικό επιτόκιο (discount rate) είναι ο παράγων με τον οποίο μειώνονται τα αναμενόμενα μελλοντικά οφέλη μιας πολιτικής προκειμένου να υπολογιστεί η τρέχουσα αξία τους. Σε γενικές γραμμές, το υψηλό προεξοφλητικό επιτόκιο μειώνει σημαντικά την τρέχουσα αξία πολιτικών με μακροπρόθεσμα οφέλη, όπως οι πολιτικές αντιμετώπισης του φαινομένου του θερμοκηπίου. </a:t>
            </a:r>
            <a:endParaRPr b="0" lang="en-US" sz="2200" spc="-1" strike="noStrike">
              <a:solidFill>
                <a:srgbClr val="000000"/>
              </a:solidFill>
              <a:latin typeface="Arial"/>
            </a:endParaRPr>
          </a:p>
          <a:p>
            <a:pPr lvl="1" marL="457200" indent="0" algn="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Stern, 2007</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D12D-9A45-478D-AF9D-70BCE3D3B62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οντέλο της βαθμιαίας προσέγγισης και εφαρμογής εκλαμβάνει την πολιτική ως απόρροια των συμβιβασμών στους οποίους καταλήγουν οι διάφοροι δρώντες, οι οποίοι δεν αποκλείεται να έχουν μη ολοκληρωμένες ή και αντιφατικές στοχεύσει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εί, λοιπόν, να αποτελέσει είτε δεοντολογική περιγραφή της άσκησης της πολιτικής (μέσω της συναινετικής συμφιλίωσης διαφορετικών συμφερόντων), είτε ως περιγραφή του πραγματικού τρόπου διαμόρφωσης και εφαρμογής της πολιτικ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A659-31AE-4439-8EC7-1F5D952A408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οντέλο του κάδου απορριμμάτων ενδιαφέρεται μόνο για την περιγραφή των σημαντικών περιορισμών στη διαδικασία λήψης των πολιτικών αποφάσεων στο εσωτερικό πολλών οργανισμών - η προσέγγιση αυτή εξετάζει μόνο την πραγματικότητα, και όχι το δέον γενέσθ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4CF3-BE55-4CD2-BECA-43607DC659C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σέγγιση της δημόσιας πολιτικής θα μας βοηθήσει η διάκριση της πολιτικής διαδικασίας στα πέντε στάδια που περιγράφει το Σχήμα 18.1: της αφετηρίας, της διαμόρφωσης, της εφαρμογής, της αξιολόγησης και του ελέγχου. </a:t>
            </a:r>
            <a:endParaRPr b="0" lang="en-US" sz="1200" spc="-1" strike="noStrike">
              <a:solidFill>
                <a:srgbClr val="000000"/>
              </a:solidFill>
              <a:latin typeface="Arial"/>
            </a:endParaRPr>
          </a:p>
        </p:txBody>
      </p:sp>
      <p:sp>
        <p:nvSpPr>
          <p:cNvPr id="1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E7D6-4DB2-4E3F-9510-9A87713F878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ολιτικοί επιχειρηματίες (policy entrepreneurs) είναι «πρόσωπα που υποστηρίζουν συγκεκριμένες προτάσεις ή ιδέες» (Kingdon, 2003, σ. 122). Ασκούν επιρροή, προβάλλοντας το ζήτημα που τους απασχολεί (όπως η ασφάλεια των αυτοκινήτων ή η παγκόσμια φτώχεια), άλλοτε διαμορφώνοντας το πλαίσιο της συζήτησης (ναι, μπορούμε!) και άλλοτε δείχνοντας ότι οι ιδέες τους μπορούν να εφαρμοστούν με νέους τρόπους, σε νέα πεδία και σε ζητήματα τρέχοντος ενδιαφέρον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8480-C2CA-45BA-BBAD-748CCC23646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25651-E775-45CD-B432-5898E0E2F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53481-08FE-404F-8DD9-454FBAB47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F2621-1C03-48FC-8071-A9C62B4C4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BF727-FD9E-464B-BB55-B1E19C9E9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1BADB-6629-4EB8-890E-B85CBD51F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39CCD-F6EA-487A-AC88-4E2FCC308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8684B-7234-4FFD-9871-1574CEC99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34CBA-41B9-4997-935D-4A67D8CBD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1399B-8E20-45EC-B5B2-095358C56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63C07-791B-425B-B340-6D2C2E985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AC8BC-6391-4C1A-BFD3-D782D4982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7760-ED09-482E-AFAA-AB9895AA0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B9E67-B0E2-43DE-9851-AE95A9F03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F8BAC-AA4F-4D2F-BE3F-544DB7F06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3BBB-F7AB-4BE9-8027-F89AC98F5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87FD5-2C26-435E-ACB6-F61E7FD32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2C0C2-6762-4436-94AF-937B4922D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F679B-0550-463B-A004-2BF4A7D05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C9218-B3D3-4FDC-86D0-AB809BDFF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F484-813C-4D10-A45C-B92F9D191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1B41-0251-4349-8869-7908381B0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6DE9-21E3-4821-9362-98E7EEDCC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65D6-054B-4D5E-9769-171EDC79A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657F-C312-4C89-B02E-2D5B511F9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063F-57CF-4BFE-B1B7-6B66743B8E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50E2-822D-4493-8F37-EC0852D1EE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8</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διαδικασία διαμόρφωσης και άσκησης της πολιτικ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φαρμογή</a:t>
            </a:r>
            <a:endParaRPr b="0" lang="en-US" sz="4200" spc="-1" strike="noStrike">
              <a:solidFill>
                <a:srgbClr val="66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σέγγιση «από την κορυφή» (top-down) θεωρεί ότι καθήκον της εφαρμογής της πολιτικής είναι να εξασφαλίζει ότι η εκτέλεση των πολιτικών φέρνει τα αποτελέσματα και επιτυγχάνει τους στόχους που έχουν προκαθορίσει οι αρμόδιοι για τη χάραξή του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φαρμογή</a:t>
            </a:r>
            <a:endParaRPr b="0" lang="en-US" sz="4200" spc="-1" strike="noStrike">
              <a:solidFill>
                <a:srgbClr val="66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η προσέγγιση «από τη βάση» (bottom-up) θεωρεί ότι ο ρόλος αυτών που είναι επιφορτισμένοι με την πρακτική εφαρμογή της πολιτικής είναι να ανταποκρίνονται στις τοπικές και στις μεταβαλλόμενες συνθήκ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Αξιολόγηση</a:t>
            </a:r>
            <a:endParaRPr b="0" lang="en-US" sz="4200" spc="-1" strike="noStrike">
              <a:solidFill>
                <a:srgbClr val="660033"/>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αγόμενα της πολιτικής (policy outputs) είναι όλα όσα κάνει μια κυβέρνη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έσματα της πολιτικής (policy outcomes) είναι όσα πετυχαίνει. Τα αποτελέσματα είναι η δραστηριότητα, ή αλλιώς οι συνέπειες της πολιτικής, τόσο οι σχεδιασμένες όσο και οι απρόβλεπ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ργαλεία πολιτικής</a:t>
            </a:r>
            <a:endParaRPr b="0" lang="en-US" sz="4200" spc="-1" strike="noStrike">
              <a:solidFill>
                <a:srgbClr val="660033"/>
              </a:solidFill>
              <a:latin typeface="Times New Roman"/>
            </a:endParaRPr>
          </a:p>
        </p:txBody>
      </p:sp>
      <p:sp>
        <p:nvSpPr>
          <p:cNvPr id="13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ρεις κατηγορίες πολιτικών εργαλείων:</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αστίγια (κυρώσει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ρότα (επιβραβεύσει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ηρύγματα (πληροφόρηση και πειθώ)</a:t>
            </a:r>
            <a:endParaRPr b="0" lang="en-US" sz="2600" spc="-1" strike="noStrike">
              <a:solidFill>
                <a:srgbClr val="000000"/>
              </a:solidFill>
              <a:latin typeface="Arial"/>
            </a:endParaRPr>
          </a:p>
          <a:p>
            <a:pPr lvl="2" marL="1143000" indent="-228600" algn="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Vedung,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ργαλεία πολιτικής</a:t>
            </a:r>
            <a:endParaRPr b="0" lang="en-US" sz="4200" spc="-1" strike="noStrike">
              <a:solidFill>
                <a:srgbClr val="660033"/>
              </a:solidFill>
              <a:latin typeface="Times New Roman"/>
            </a:endParaRPr>
          </a:p>
        </p:txBody>
      </p:sp>
      <p:sp>
        <p:nvSpPr>
          <p:cNvPr id="13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σύστημα ανώτατων ορίων και δικαιωμάτων εμπορίας (cap and trade), η κυβέρνηση θέτει ένα ανώτατο όριο εκπομπής συγκεκριμένου ρύπου και εκδίδει δικαιώματα ρύπανσης έως αυτό το όριο. Στη συνέχεια, τα δικαιώματα αυτά μπορούν να αγοραστούν και να πωληθού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Ρυθμιστικό πλαίσιο</a:t>
            </a:r>
            <a:endParaRPr b="0" lang="en-US" sz="4200" spc="-1" strike="noStrike">
              <a:solidFill>
                <a:srgbClr val="660033"/>
              </a:solidFill>
              <a:latin typeface="Times New Roman"/>
            </a:endParaRPr>
          </a:p>
        </p:txBody>
      </p:sp>
      <p:sp>
        <p:nvSpPr>
          <p:cNvPr id="13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δημόσιο ρυθμιστικό πλαίσιο (regulation) αναφέρεται στην εποπτεία συγκεκριμένου κοινωνικού ή οικονομικού τομέα, κυρίως μέσω της θέσπισης και εφαρμογής κανόνων, και της επιδιαιτησίας σε περιπτώσεις διαφορ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Ρυθμιστικό πλαίσιο</a:t>
            </a:r>
            <a:endParaRPr b="0" lang="en-US" sz="4200" spc="-1" strike="noStrike">
              <a:solidFill>
                <a:srgbClr val="660033"/>
              </a:solidFill>
              <a:latin typeface="Times New Roman"/>
            </a:endParaRPr>
          </a:p>
        </p:txBody>
      </p:sp>
      <p:sp>
        <p:nvSpPr>
          <p:cNvPr id="13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ρρύθμιση (co-regulation) αναθέτει την επίτευξη δημόσιων στόχων, συνολικά ή εν μέρει, σε ομάδες που συμμετέχουν άμεσα στον συγκεκριμένο τομέα (π.χ. στους ιατρικούς συλλόγου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υτορρύθμιση (self-regulation) ασκείται από τις ίδιες τις ομάδες, ενίοτε ανεξάρτητα από την κυβέρνηση.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Ρυθμιστικό πλαίσιο</a:t>
            </a:r>
            <a:endParaRPr b="0" lang="en-US" sz="4200" spc="-1" strike="noStrike">
              <a:solidFill>
                <a:srgbClr val="660033"/>
              </a:solidFill>
              <a:latin typeface="Times New Roman"/>
            </a:endParaRPr>
          </a:p>
        </p:txBody>
      </p:sp>
      <p:sp>
        <p:nvSpPr>
          <p:cNvPr id="138"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ανεξάρτητος ρυθμιστικός φορέας (independent regulatory agency) είναι ένας αμερικανικής προέλευσης όρος, που αναφέρεται σε δημόσιους φορείς, οι οποίοι θεσπίζονται με απόφαση του Κογκρέσου για να ορίζουν και εφαρμόζουν κανόνες σε συγκεκριμένους τομείς. Οι φορείς αυτοί δεν υπάγονται οργανικά στα υπουργεία, ενώ τα μέλη τους μπορούν να παυτούν μόνον από τον πρόεδρο και αποκλειστικά για λόγους που ορίζονται ρητά στον ιδρυτικό τους νόμο.</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4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ταγή της πολιτικής στις πολιτικές σκοπιμότητ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μφαση στην πολιτική επιβίωση και τον προσωπικό πλουτισμό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διαφάνει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δυναμία ηγετών να χαράξουν ολοκληρωμένη πολιτική</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λιτική αδράνεια – στασιμότη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42"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έννοια της επιδίωξης προσόδων (rent-seeking) αναφέρεται στην προσπάθεια κρατικών λειτουργών να αποκομίσουν προσόδους από την πώληση κάποιου πόρου στον οποίο οι ίδιοι δεν προσθέτουν καμία αξία. Η πρακτική αυτή είναι αμοιβαία επωφελής για τους συναλλασσομένους, έχει όμως κόστος για την οικονομία και την κοινωνία συνολικά.</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ισαγωγή </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έννοια της πολιτικής (policy) είναι ευρύτερη από αυτή της απόφασης. Κάθε πολιτική περιλαμβάνει εξ ορισμού ένα σύνολο αποφάσεων. Γενικά μιλώντας, οι πολιτικές υποδηλώνουν την πρόθεση να ληφθούν συγκεκριμένες αποφάσεις στο μέλλο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4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υσία ισχυρών θεσμών, νομικού πλαισίου και περίπλοκης διασύνδεσης στο εσωτερικό της κοινωνί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αϊκιστική εκμετάλλευση της φτώχειας και της ανισότητ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φθορά και αδιαφάνεια</a:t>
            </a:r>
            <a:endParaRPr b="0" lang="en-US" sz="2800" spc="-1" strike="noStrike">
              <a:solidFill>
                <a:srgbClr val="000000"/>
              </a:solidFill>
              <a:latin typeface="Arial"/>
            </a:endParaRPr>
          </a:p>
          <a:p>
            <a:pPr marL="343080" indent="-343080">
              <a:spcBef>
                <a:spcPts val="700"/>
              </a:spcBef>
              <a:buClr>
                <a:srgbClr val="cccc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4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δημιουργία ικανοτήτων (capacity building) αναφέρεται στην ανάπτυξη της μακροπρόθεσμης ικανότητας των οργανισμών και φορέων να πετύχουν τους στόχους τους. Προϋποθέτει όχι μόνον υλικούς και ανθρώπινους πόρους, αλλά και τη δυνατότητα ουσιαστικής αξιοποίησής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Μοντέλα διαμόρφωσης </a:t>
            </a:r>
            <a:br>
              <a:rPr sz="4000"/>
            </a:br>
            <a:r>
              <a:rPr b="0" lang="en-US" sz="4000" spc="-1" strike="noStrike">
                <a:solidFill>
                  <a:srgbClr val="660033"/>
                </a:solidFill>
                <a:latin typeface="Times New Roman"/>
              </a:rPr>
              <a:t>της πολιτικής</a:t>
            </a:r>
            <a:endParaRPr b="0" lang="en-US" sz="4000" spc="-1" strike="noStrike">
              <a:solidFill>
                <a:srgbClr val="660033"/>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ρθολογικό (ή συνοπτικό) μοντέλο</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οντέλο βαθμιαίας προσέγγισης και εφαρμογή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οντέλο του κάδου απορριμμά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Το ορθολογικό μοντέλο</a:t>
            </a:r>
            <a:endParaRPr b="0" lang="en-US" sz="4200" spc="-1" strike="noStrike">
              <a:solidFill>
                <a:srgbClr val="660033"/>
              </a:solidFill>
              <a:latin typeface="Times New Roman"/>
            </a:endParaRPr>
          </a:p>
        </p:txBody>
      </p:sp>
      <p:sp>
        <p:nvSpPr>
          <p:cNvPr id="11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ορθολογικό μοντέλο αναζητά τα στοιχεία που θα χαρακτήριζαν την ορθολογική διαμόρφωση της πολιτικής, χωρίς να θεωρεί ότι τα συμπεράσματά του αντανακλώνται στην πράξ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Το ορθολογικό μοντέλο</a:t>
            </a:r>
            <a:endParaRPr b="0" lang="en-US" sz="4200" spc="-1" strike="noStrike">
              <a:solidFill>
                <a:srgbClr val="660033"/>
              </a:solidFill>
              <a:latin typeface="Times New Roman"/>
            </a:endParaRPr>
          </a:p>
        </p:txBody>
      </p:sp>
      <p:sp>
        <p:nvSpPr>
          <p:cNvPr id="113"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προεξοφλητικό επιτόκιο (discount rate) είναι ο παράγων με τον οποίο μειώνονται τα αναμενόμενα μελλοντικά οφέλη μιας πολιτικής προκειμένου να υπολογιστεί η τρέχουσα αξία τους. Σε γενικές γραμμές, το υψηλό προεξοφλητικό επιτόκιο μειώνει σημαντικά την τρέχουσα αξία πολιτικών με μακροπρόθεσμα οφέλη, όπως οι πολιτικές αντιμετώπισης του φαινομένου του θερμοκηπίου. </a:t>
            </a:r>
            <a:endParaRPr b="0" lang="en-US" sz="2400" spc="-1" strike="noStrike">
              <a:solidFill>
                <a:srgbClr val="000000"/>
              </a:solidFill>
              <a:latin typeface="Arial"/>
            </a:endParaRPr>
          </a:p>
          <a:p>
            <a:pPr lvl="1" marL="743040" indent="-285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Stern, 2007</a:t>
            </a: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660033"/>
                </a:solidFill>
                <a:latin typeface="Times New Roman"/>
              </a:rPr>
              <a:t>Το μοντέλο της βαθμιαίας προσέγγισης και εφαρμογής</a:t>
            </a:r>
            <a:br>
              <a:rPr sz="4000"/>
            </a:br>
            <a:endParaRPr b="0" lang="en-US" sz="4000" spc="-1" strike="noStrike">
              <a:solidFill>
                <a:srgbClr val="660033"/>
              </a:solidFill>
              <a:latin typeface="Times New Roman"/>
            </a:endParaRPr>
          </a:p>
        </p:txBody>
      </p:sp>
      <p:sp>
        <p:nvSpPr>
          <p:cNvPr id="11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μοντέλο της βαθμιαίας προσέγγισης και εφαρμογής εκλαμβάνει την πολιτική ως απόρροια των συμβιβασμών στους οποίους καταλήγουν οι διάφοροι δρώντες, οι οποίοι δεν αποκλείεται να έχουν μη ολοκληρωμένες ή και αντιφατικές στοχεύσει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Το μοντέλο του κάδου απορριμμάτων</a:t>
            </a:r>
            <a:endParaRPr b="0" lang="en-US" sz="4000" spc="-1" strike="noStrike">
              <a:solidFill>
                <a:srgbClr val="660033"/>
              </a:solidFill>
              <a:latin typeface="Times New Roman"/>
            </a:endParaRPr>
          </a:p>
        </p:txBody>
      </p:sp>
      <p:sp>
        <p:nvSpPr>
          <p:cNvPr id="11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μοντέλο του κάδου απορριμμάτων ενδιαφέρεται μόνο για την περιγραφή των σημαντικών περιορισμών στη διαδικασία λήψης των πολιτικών αποφάσεων στο εσωτερικό πολλών οργανισμών - η προσέγγιση αυτή εξετάζει μόνο την πραγματικότητα, και όχι το δέον γενέσθα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Στάδια της πολιτικής διαδικασίας</a:t>
            </a:r>
            <a:endParaRPr b="0" lang="en-US" sz="4200" spc="-1" strike="noStrike">
              <a:solidFill>
                <a:srgbClr val="660033"/>
              </a:solidFill>
              <a:latin typeface="Times New Roman"/>
            </a:endParaRPr>
          </a:p>
        </p:txBody>
      </p:sp>
      <p:sp>
        <p:nvSpPr>
          <p:cNvPr id="119"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χήμα 18.1: Τα στάδια της πολιτικής διαδικασίας</a:t>
            </a:r>
            <a:endParaRPr b="0" lang="en-US" sz="2000" spc="-1" strike="noStrike">
              <a:solidFill>
                <a:srgbClr val="000000"/>
              </a:solidFill>
              <a:latin typeface="Arial"/>
            </a:endParaRPr>
          </a:p>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2" descr="C:\Users\EPIMELEIA\Dropbox\Kritiki-Book-Proofing\14-sigritiki-politiki-hague\images\Hag_Fig_18_01.png"/>
          <p:cNvPicPr/>
          <p:nvPr/>
        </p:nvPicPr>
        <p:blipFill>
          <a:blip r:embed="rId1"/>
          <a:stretch/>
        </p:blipFill>
        <p:spPr>
          <a:xfrm>
            <a:off x="3429000" y="2133720"/>
            <a:ext cx="2095560" cy="42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Αφετηρία και διαμόρφωση</a:t>
            </a:r>
            <a:endParaRPr b="0" lang="en-US" sz="4200" spc="-1" strike="noStrike">
              <a:solidFill>
                <a:srgbClr val="660033"/>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πολιτικοί δρώντες (policy entrepreneurs) είναι «πρόσωπα που υποστηρίζουν συγκεκριμένες προτάσεις ή ιδέες» (Kingdon, 2003, σ. 122). Ασκούν επιρροή, προβάλλοντας το ζήτημα που τους απασχολεί (όπως η ασφάλεια των αυτοκινήτων ή η παγκόσμια φτώχεια), άλλοτε διαμορφώνοντας το πλαίσιο της συζήτησης και άλλοτε δείχνοντας ότι οι ιδέες τους μπορούν να εφαρμοστούν με νέους τρόπους, σε νέα πεδία και σε ζητήματα τρέχοντος ενδιαφέροντο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18:44:38Z</dcterms:created>
  <dc:creator>pc</dc:creator>
  <dc:description/>
  <dc:language>en-US</dc:language>
  <cp:lastModifiedBy>Dimitri</cp:lastModifiedBy>
  <dcterms:modified xsi:type="dcterms:W3CDTF">2016-04-04T11:13:58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